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EA9C6-0574-444B-8AB5-09A2991A57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521AC-0A33-498D-A29E-48EAD971D36F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E5F1F-C16F-4CC4-9464-57E26462045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0EB-B8F5-4298-8EA5-9E89FEA0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61C-6CFC-4193-8502-BDEB0602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0AA-D54D-46E5-B547-D1A80206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EA6-77F8-4378-A157-FA78C96A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8F82-A5B4-40DA-8F66-3288741F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C508-36B9-4531-AA04-998E8D82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4EFE-8475-4686-8D8D-36F0F34F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F4B9-3763-4CDB-B581-02D40042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335A-3539-4330-8190-479F2B8A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F886-3428-4B70-8745-42FB66EF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48B8-FB5F-4BA1-B909-4727236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352-9E67-42F3-9848-733B21E6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A278-FD0E-4933-8705-1246585C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B071-B642-4BFA-911D-446DAD6F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2F2F-A54B-49EF-B82D-8DDFC0FA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7A8A-31CE-4902-AEA7-1A477800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B96D-81B8-4B6C-8FA5-8E5FF25F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6624-8EBA-4F1F-B628-D35BDE64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1D62-C851-42D9-A313-FCFCE2FA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0D08-3406-4192-BCF0-543E30B1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8005-CF5A-4E46-825C-332D974C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91FD-0A36-4D0F-B9E3-0D1378C7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4A4-84F1-454E-9E14-5C531D99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5547-4BB4-439D-B33B-81529053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DB28-CFEC-46D8-AE38-D8EAD790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1CBA-91BD-4BA8-9B95-CC7CDE9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DBD6-23AC-44CF-B882-615DA798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9C4F-0931-414F-AF6B-7FF627BA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2F87-4827-4FED-8472-6E1D2CFA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7357-7F4D-4FB8-BBA7-5867D7E5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DEA5-64E3-4B8C-88BC-4961B98A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BD0C-CA8B-48ED-972A-ED54ABFE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1CD2-9EA4-413C-BE5B-03685F30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17F-87A6-43E2-A56E-8493FBD5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43C1-B155-43A3-BBC9-5CF66D6D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B5EF-6633-4021-B589-84C92E2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27AF-9922-4013-966E-249846B5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E633-6BE5-4B92-91CC-D1BA0A2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38B09-1619-4CCC-B005-5288AFF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5DE54-6FF1-4A1C-B439-65F72C37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201D-7098-4216-9EC9-8F01E373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0965-1306-4537-8B42-1F07056E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2FBDB-3FAB-4992-A117-C798C3F8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032-2BDA-45EE-AD7E-5548BA1C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EBA-F795-43DE-96D3-EDE29919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549-7DF7-4097-AA7B-29BE6FB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A3F-85E1-4616-A004-0D2E43AE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0FB-1681-4B35-9D6F-FAF4386E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CE3CD-2E3D-4F53-BB63-5865BB7787DA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0D2AD-25D4-4D5F-9323-7E9A0C0DB26B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3EA41-DDD6-4CC8-8BFB-234056B79C36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EC57A-DB42-4BD4-ADE4-E05542AA69A5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hyperlink" Target="https://www.santepubliquefrance.fr/les-actualites/2017/mise-en-place-des-postes-sanitaires-mobiles-pediatriques" TargetMode="External"/><Relationship Id="rId4" Type="http://schemas.openxmlformats.org/officeDocument/2006/relationships/hyperlink" Target="https://solidarites-sante.gouv.fr/fichiers/bo/2013/13-12/ste_20130012_0000_0068.pd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03360" y="907920"/>
            <a:ext cx="7683480" cy="1312920"/>
          </a:xfrm>
          <a:prstGeom prst="rect">
            <a:avLst/>
          </a:prstGeom>
          <a:noFill/>
          <a:ln w="9360">
            <a:solidFill>
              <a:srgbClr val="3fc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Postes Sanitaires Mobiles </a:t>
            </a:r>
            <a:br>
              <a:rPr sz="4000"/>
            </a:b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I et II et Pédiatriqu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1560" y="4818240"/>
            <a:ext cx="63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0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EFD06-0CF2-4D14-BA67-A7EB259B28F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Image 5" descr=""/>
          <p:cNvPicPr/>
          <p:nvPr/>
        </p:nvPicPr>
        <p:blipFill>
          <a:blip r:embed="rId1"/>
          <a:stretch/>
        </p:blipFill>
        <p:spPr>
          <a:xfrm>
            <a:off x="7790040" y="5257800"/>
            <a:ext cx="1009440" cy="860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900000" y="56404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r Françoise Raffy - Pharmac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Image 3" descr=""/>
          <p:cNvPicPr/>
          <p:nvPr/>
        </p:nvPicPr>
        <p:blipFill>
          <a:blip r:embed="rId2"/>
          <a:stretch/>
        </p:blipFill>
        <p:spPr>
          <a:xfrm>
            <a:off x="2400480" y="2368440"/>
            <a:ext cx="32637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9752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Les malles antidote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560" y="1909800"/>
            <a:ext cx="583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 chimique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CONTRATHION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YANOKIT, SUCCICAPTAL, ATROPINE 40mg,</a:t>
            </a:r>
            <a:br>
              <a:rPr sz="1400"/>
            </a:b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CLONAZEPA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s nucléaire et radiologiqu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iodure de potassium, RADIOGARDASE, Ca-DTPA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biotique, </a:t>
            </a: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Peste charbon tularémie</a:t>
            </a: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iprofloxacine 500mg c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 de </a:t>
            </a:r>
            <a:r>
              <a:rPr b="0" lang="fr-FR" sz="1400" spc="-1" strike="noStrike" u="sng">
                <a:solidFill>
                  <a:srgbClr val="404040"/>
                </a:solidFill>
                <a:uFillTx/>
                <a:latin typeface="Trebuchet MS"/>
              </a:rPr>
              <a:t>15 victim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ar mall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 : 2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I : 4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B5F6E-2883-47BB-BA55-DCEA3ADA46A8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C:\Users\passemad\Desktop\ACTIVITE\Stocks_Urgences\PSM\test_nouvelle_dotation_2016\PSM A JOUR\Antidotes\ANT-1.JPG"/>
          <p:cNvPicPr/>
          <p:nvPr/>
        </p:nvPicPr>
        <p:blipFill>
          <a:blip r:embed="rId1"/>
          <a:stretch/>
        </p:blipFill>
        <p:spPr>
          <a:xfrm>
            <a:off x="5535720" y="3790800"/>
            <a:ext cx="344304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1" descr=""/>
          <p:cNvPicPr/>
          <p:nvPr/>
        </p:nvPicPr>
        <p:blipFill>
          <a:blip r:embed="rId2"/>
          <a:stretch/>
        </p:blipFill>
        <p:spPr>
          <a:xfrm>
            <a:off x="4851360" y="6224760"/>
            <a:ext cx="615960" cy="566640"/>
          </a:xfrm>
          <a:prstGeom prst="rect">
            <a:avLst/>
          </a:prstGeom>
          <a:ln w="0">
            <a:noFill/>
          </a:ln>
        </p:spPr>
      </p:pic>
      <p:pic>
        <p:nvPicPr>
          <p:cNvPr id="269" name="Image 2" descr=""/>
          <p:cNvPicPr/>
          <p:nvPr/>
        </p:nvPicPr>
        <p:blipFill>
          <a:blip r:embed="rId3"/>
          <a:stretch/>
        </p:blipFill>
        <p:spPr>
          <a:xfrm>
            <a:off x="5648400" y="135900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N:\PSM\PSM1\malles antidotes PSM\CIMG2093.JPG"/>
          <p:cNvPicPr/>
          <p:nvPr/>
        </p:nvPicPr>
        <p:blipFill>
          <a:blip r:embed="rId4"/>
          <a:stretch/>
        </p:blipFill>
        <p:spPr>
          <a:xfrm>
            <a:off x="5648400" y="3808440"/>
            <a:ext cx="33922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416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oints forts des PS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2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29A90-515E-4E87-BA16-3FE6C21DC63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2060640"/>
            <a:ext cx="82072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inalité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ise en charge de victimes sur le ter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nfort hospitali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tandardisa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position limitée et identique pour tous les P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PSM est connu de tous les intervenants de l’aide médicale urgente, quel que soit son département d’impla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spection 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ge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210 référenc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Médicaments, Solutés massifs, Gaz médicaux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Dispositifs médicaux, Instruments chirurgicaux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s d’urge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érennité de la dotation : rotation et réinjection dans le circuit hospitalier avant péremption, changements en fonction des marché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Gestion Informatisée : application web SIGeS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Retrait de lots :pharmacovigilance, matériovigila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ollaboration étroite SAMU et Pharmaci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Un outil informatique de gestion partagé de l’information : SIGeSS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ES     ESR     ARS/Z     SP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Suivi de la composition, des péremptions et des n° de lots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85BC2-FF4C-4CD3-AA52-95C44C1BFDC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2016000" y="5516640"/>
            <a:ext cx="179640" cy="14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871720" y="5524560"/>
            <a:ext cx="179280" cy="14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4035600" y="5573880"/>
            <a:ext cx="1792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IGeSSE</a:t>
            </a: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Système Informatisé de Gestion des Situations Sanitaires Exceptionnel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util de gestion des stocks tactiques des établissements de sant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Base de données en ligne avec une interface graphique permettant les modifications, l’import et l’export de donné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C23E9-72CE-40A6-8114-240D6E18728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1905120"/>
            <a:ext cx="81676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ise en conformité (début 2017) de la dotation après réactualisation par la commission national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Suivi des évolutions des marchés pour les références du P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Suppressio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Equivalent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Incidence sur le stockage en mall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E3026-497E-4397-81B0-2FA4CED58E9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Inventaire complet annuel hors rot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Contrôle réalisé conjointement avec le SAM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Traçabilité logiciel SIGeS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ctions correctrices si nécessair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AD534-C44F-45F6-ACBB-243D00E4EEDB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bjectifs de SIGeS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904760"/>
            <a:ext cx="855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artager entre SPF, les ARS, les ARSZ les ES la gestion des moyens de réponse aux situations sanitaires exceptionnelles déployés dans les ES au sein des zones de défense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Obtenir aux niveaux national et zonal une visibilité sur la disponibilité des stocks tactiques et leur lieu de stockag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Réaliser des mouvements de stocks et des inventaires dans les établissements (PSM et équipements), suivre la maintenance, gérer les kits de produits…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Gérer les équipements et produits supplémentaires aux moyens tactiques mais intégrés à l’initiative de chaque établissement ou de l’ARS pour améliorer la réponse en cas de cris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ermettre des requêtes nécessaires aux reportings aux niveaux établissement, ARS, ARSZ, Santé publique Fra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Fournir aux utilisateurs un outil sécurisé et convivial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1D31A-055A-40C3-9748-DDD112094E31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Image 1" descr=""/>
          <p:cNvPicPr/>
          <p:nvPr/>
        </p:nvPicPr>
        <p:blipFill>
          <a:blip r:embed="rId1"/>
          <a:stretch/>
        </p:blipFill>
        <p:spPr>
          <a:xfrm>
            <a:off x="7451640" y="67140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6560" y="698400"/>
            <a:ext cx="816300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Fonctionnalités principales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C1FBE-CCE1-48A6-A4B2-FF727A859A0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26920" y="220500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 aux référentiels nation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bleau de bord des moy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tactiq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loc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lertes et suivi des péremptions et maintenan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Image 1" descr=""/>
          <p:cNvPicPr/>
          <p:nvPr/>
        </p:nvPicPr>
        <p:blipFill>
          <a:blip r:embed="rId1"/>
          <a:stretch/>
        </p:blipFill>
        <p:spPr>
          <a:xfrm>
            <a:off x="7451640" y="6382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0680" y="620280"/>
            <a:ext cx="81626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Tableau de bord des moyen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1E956-DD98-4F26-B758-E1DF1DA71829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rcRect l="0" t="9861" r="0" b="4456"/>
          <a:stretch/>
        </p:blipFill>
        <p:spPr>
          <a:xfrm>
            <a:off x="0" y="155736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 1" descr=""/>
          <p:cNvPicPr/>
          <p:nvPr/>
        </p:nvPicPr>
        <p:blipFill>
          <a:blip r:embed="rId2"/>
          <a:stretch/>
        </p:blipFill>
        <p:spPr>
          <a:xfrm>
            <a:off x="7451640" y="69048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63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Gestion des moyens et des </a:t>
            </a:r>
            <a:r>
              <a:rPr b="0" lang="fr-FR" sz="4000" spc="-1" strike="noStrike">
                <a:solidFill>
                  <a:srgbClr val="236292"/>
                </a:solidFill>
                <a:latin typeface="Trebuchet MS"/>
              </a:rPr>
              <a:t>lot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8481" r="0" b="3960"/>
          <a:stretch/>
        </p:blipFill>
        <p:spPr>
          <a:xfrm>
            <a:off x="0" y="148428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30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FB6C5-6940-46DC-BA46-11C8FB0FD62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Image 1" descr=""/>
          <p:cNvPicPr/>
          <p:nvPr/>
        </p:nvPicPr>
        <p:blipFill>
          <a:blip r:embed="rId2"/>
          <a:stretch/>
        </p:blipFill>
        <p:spPr>
          <a:xfrm>
            <a:off x="7740720" y="8398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38088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tocks des Situations </a:t>
            </a:r>
            <a:br>
              <a:rPr sz="3600"/>
            </a:b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anitaires Exceptionnelles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Stratég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Etat gérés et détenus par Santé Publique France (SPF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renfort ou deuxième intentio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ns de distribution exceptionnelle (circ. Intermin. 13/08/2013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comprimés iodure de potassium 65 mg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Tact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s ES siège de SAMU ou de SMU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première intention déployés par les 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Poste Sanitaire Mobile (PSM)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Composition définie au niveau national (commission moyens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500" spc="-1" strike="noStrike">
                <a:solidFill>
                  <a:srgbClr val="404040"/>
                </a:solidFill>
                <a:latin typeface="Trebuchet MS"/>
              </a:rPr>
              <a:t>Stocks ANTIDOTES D’URGE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0289C-3958-46F0-85E6-6A29D1F3717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"/>
          <p:cNvPicPr/>
          <p:nvPr/>
        </p:nvPicPr>
        <p:blipFill>
          <a:blip r:embed="rId2"/>
          <a:stretch/>
        </p:blipFill>
        <p:spPr>
          <a:xfrm>
            <a:off x="6237360" y="371628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ERCI de votre atten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12" name="Espace réservé du contenu 5" descr=""/>
          <p:cNvPicPr/>
          <p:nvPr/>
        </p:nvPicPr>
        <p:blipFill>
          <a:blip r:embed="rId1"/>
          <a:stretch/>
        </p:blipFill>
        <p:spPr>
          <a:xfrm>
            <a:off x="6289560" y="2492280"/>
            <a:ext cx="2322720" cy="3881520"/>
          </a:xfrm>
          <a:prstGeom prst="rect">
            <a:avLst/>
          </a:prstGeom>
          <a:ln w="0">
            <a:noFill/>
          </a:ln>
        </p:spPr>
      </p:pic>
      <p:sp>
        <p:nvSpPr>
          <p:cNvPr id="313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5AF74-ABF3-477B-8707-4C3C8FB69D46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Image 6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615960" cy="5666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"/>
          <p:cNvSpPr/>
          <p:nvPr/>
        </p:nvSpPr>
        <p:spPr>
          <a:xfrm>
            <a:off x="468360" y="1484280"/>
            <a:ext cx="597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3"/>
              </a:rPr>
              <a:t>https://www.santepubliquefrance.fr/les-actualites/2017/mise-en-place-des-postes-sanitaires-mobiles-pediatriq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4"/>
              </a:rPr>
              <a:t>https://solidarites-sante.gouv.fr/fichiers/bo/2013/13-12/ste_20130012_0000_0068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https://solidarites-sante.gouv.fr/systeme-de-sante-et-medico-social/securite-sanitaire/article/les-moyens-sanitaires-mobilisab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rgan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1904760"/>
            <a:ext cx="8381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Ministère –Santé Publique France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Deux Niveaux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1 - 25 blessés - 400 kg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2 - 500 blessés - 8 tonnes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Répartition nationale (24 PSM 2 – 109 PSM1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te-forme nationale projetable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Implantée sur le site du CHU Henri Mondor à Créteil, au sein du SAMU 94, hélistation répondant aux normes européennes et susceptible d’accueillir des hélicoptères gros porteurs, proximité avec les aéroports de la région parisienne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Les moyens de la plateforme nationale : PSM3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Localisation des PSM: CH avec SAMU ou SMUR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Trebuchet MS"/>
              </a:rPr>
              <a:t>Zone Est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4 PSM 2 : Besançon, Nancy, Reims et Strasbour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8 PSM ped (chaque siège de SAMU-SMUR: 1/ départemen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5 PSM 1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A7777-375D-4AFB-9997-3F2EB4F6E20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Imag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062C4-2F1B-498E-87EC-D0C9ED962F2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15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Localisation en Zone Es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D3895-E029-44B9-87FB-E09EDC50E4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Image 1" descr=""/>
          <p:cNvPicPr/>
          <p:nvPr/>
        </p:nvPicPr>
        <p:blipFill>
          <a:blip r:embed="rId1"/>
          <a:stretch/>
        </p:blipFill>
        <p:spPr>
          <a:xfrm>
            <a:off x="2340000" y="1330200"/>
            <a:ext cx="5400720" cy="5185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2" descr=""/>
          <p:cNvPicPr/>
          <p:nvPr/>
        </p:nvPicPr>
        <p:blipFill>
          <a:blip r:embed="rId2"/>
          <a:stretch/>
        </p:blipFill>
        <p:spPr>
          <a:xfrm>
            <a:off x="7956720" y="609480"/>
            <a:ext cx="615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Doctrine d’emploi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4360" y="1904760"/>
            <a:ext cx="83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Positionné dans les établissement de santé sièges de SAM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Gestion des PSM sous la responsabilité du SAMU et de la Pharmac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obilisable H24 par le médecin responsable du SAMU sur un évènement local ou par l’ARS/Z et ou SPF pour un renfort sur la zone ou sur le territoire nation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6738E-2B0C-4F1E-850F-19AB07D3C27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639720"/>
            <a:ext cx="669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2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8400" y="1091880"/>
            <a:ext cx="807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tériel médical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4 lots polyvalents identifiés A, B, C, 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11 malles, 25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 lots principaux identifiés 1 et 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56 malles, 200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Equipements logistiques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Remorque, tente, groupe électrogène, brancard, e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totalité du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PSM2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500 victimes dont 100 UA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ndant 24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Intégration des éléments relatif au damage control, Note d’information de novembre 201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SM I =&gt; équivalent de 1 lot polyvalent du PSM I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114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9EDD2-DB04-469D-8371-2A76E21432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Image 5" descr=""/>
          <p:cNvPicPr/>
          <p:nvPr/>
        </p:nvPicPr>
        <p:blipFill>
          <a:blip r:embed="rId1"/>
          <a:stretch/>
        </p:blipFill>
        <p:spPr>
          <a:xfrm>
            <a:off x="7596360" y="22716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250" name="Image 4" descr=""/>
          <p:cNvPicPr/>
          <p:nvPr/>
        </p:nvPicPr>
        <p:blipFill>
          <a:blip r:embed="rId2"/>
          <a:stretch/>
        </p:blipFill>
        <p:spPr>
          <a:xfrm>
            <a:off x="6211800" y="119556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MGP2297"/>
          <p:cNvPicPr/>
          <p:nvPr/>
        </p:nvPicPr>
        <p:blipFill>
          <a:blip r:embed="rId3"/>
          <a:stretch/>
        </p:blipFill>
        <p:spPr>
          <a:xfrm>
            <a:off x="6981840" y="5445000"/>
            <a:ext cx="1992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obil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1600" y="1915920"/>
            <a:ext cx="475128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ception modulai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lles formatées, standardisées, empilables et palettisabl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Un lot polyvalent sur remorque : départ H2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ransport terrestre ou héliport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0A2DB-7013-49CC-B78F-A34EF1D491E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R:\PSM2\COURS\20170529_110604.jpg"/>
          <p:cNvPicPr/>
          <p:nvPr/>
        </p:nvPicPr>
        <p:blipFill>
          <a:blip r:embed="rId2"/>
          <a:stretch/>
        </p:blipFill>
        <p:spPr>
          <a:xfrm>
            <a:off x="4952880" y="1557360"/>
            <a:ext cx="3857760" cy="4869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LOGO"/>
          <p:cNvPicPr/>
          <p:nvPr/>
        </p:nvPicPr>
        <p:blipFill>
          <a:blip r:embed="rId3"/>
          <a:stretch/>
        </p:blipFill>
        <p:spPr>
          <a:xfrm>
            <a:off x="7808760" y="981000"/>
            <a:ext cx="88740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" descr=""/>
          <p:cNvPicPr/>
          <p:nvPr/>
        </p:nvPicPr>
        <p:blipFill>
          <a:blip r:embed="rId4"/>
          <a:stretch/>
        </p:blipFill>
        <p:spPr>
          <a:xfrm>
            <a:off x="985680" y="4925880"/>
            <a:ext cx="2506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Pédiatriqu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9984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1 lot PSM pédiatrique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stitué de 11 malles de contenu polyvalen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Ne comporte pas de malle spécifique Antidot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L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PSM pédiatrique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25 UA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de moins de 10 ans (entre 10 et 30 kg) pendant 6h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ette dotation intègre des produits du damage contr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Départ en moins de 30 minutes vers le lieux de la catastrophe ou vers un hôpital confronté à une prise en charge de victim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F86C9-1D3D-4B7F-B9FD-81EA3717A3C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 1" descr=""/>
          <p:cNvPicPr/>
          <p:nvPr/>
        </p:nvPicPr>
        <p:blipFill>
          <a:blip r:embed="rId2"/>
          <a:stretch/>
        </p:blipFill>
        <p:spPr>
          <a:xfrm>
            <a:off x="5076720" y="25884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8:12:10Z</dcterms:created>
  <dc:creator>F RAFFY</dc:creator>
  <dc:description/>
  <dc:language>en-US</dc:language>
  <cp:lastModifiedBy>Maeva Cabané-Chrestia</cp:lastModifiedBy>
  <dcterms:modified xsi:type="dcterms:W3CDTF">2023-09-25T15:29:54Z</dcterms:modified>
  <cp:revision>260</cp:revision>
  <dc:subject/>
  <dc:title>Présentation PowerPoint</dc:title>
</cp:coreProperties>
</file>